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10B-7DA7-4675-8652-B937AE22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15C-3E2C-4C66-ADBD-4146B34D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8013-AA21-4143-A830-9787FBFA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48D-FA3B-445D-AAE9-A75D002D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D969-5A2A-4453-8BDB-06658694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15C9-000D-49E6-9A27-3EDC3B33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8EC5-E372-44A3-BE99-94104D4A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AF48-9753-40E7-A564-581903ED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24AA-36E5-4363-AAAC-CDFC5369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089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C461-66F7-4439-BA92-C4F2E129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8FC6-74B1-499C-8DD8-466F942D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E63-FC09-49D3-891C-73CAFD72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AF97-D082-4E70-851E-576B8AFA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0507-4112-4C0B-B7E1-75F5F8AB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3185-A370-4882-982F-CA0C373A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88CA-8FC2-4995-A2F6-EB411B74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FB30-9F53-4C7A-9B1F-DC408970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068-380C-4075-B2B0-A1C88F75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E96-A5A9-4E4B-A97A-0D6A68B3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46D-0624-4A79-9840-28CC03D3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089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7B3-51B7-4325-9FC4-A5C1DE79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64F-4DA9-4C80-A53D-689B72A5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2BF-7632-4669-9A55-E1169DF7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CA8-06FD-44E4-85BF-BDB51D37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CAA50-06C9-4A72-AAFC-3FB29684E09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09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9F1F2-C52A-4B85-AC5E-958CF49A878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verningdynamo.com/political-galleries/words-of-the-inaugural-address/2984755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ocs.google.com/present/view?id=dhn2vcv5_157dpbsg9c5" TargetMode="External"/><Relationship Id="rId3" Type="http://schemas.openxmlformats.org/officeDocument/2006/relationships/hyperlink" Target="http://docs.google.com/present/view?id=dhn2vcv5_157dpbsg9c5" TargetMode="External"/><Relationship Id="rId4" Type="http://schemas.openxmlformats.org/officeDocument/2006/relationships/hyperlink" Target="http://docs.google.com/present/view?id=dhn2vcv5_157dpbsg9c5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ordleit.wikispaces.com/" TargetMode="External"/><Relationship Id="rId3" Type="http://schemas.openxmlformats.org/officeDocument/2006/relationships/hyperlink" Target="http://wordleit.wikispaces.com/" TargetMode="External"/><Relationship Id="rId4" Type="http://schemas.openxmlformats.org/officeDocument/2006/relationships/hyperlink" Target="http://wordleit.wikispaces.com/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chef.com/ic/word_mosaic/" TargetMode="External"/><Relationship Id="rId3" Type="http://schemas.openxmlformats.org/officeDocument/2006/relationships/hyperlink" Target="http://worditout.com/" TargetMode="External"/><Relationship Id="rId4" Type="http://schemas.openxmlformats.org/officeDocument/2006/relationships/hyperlink" Target="http://tagul.com/" TargetMode="External"/><Relationship Id="rId5" Type="http://schemas.openxmlformats.org/officeDocument/2006/relationships/hyperlink" Target="http://www.wordsift.com/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agxedo.com/" TargetMode="External"/><Relationship Id="rId3" Type="http://schemas.openxmlformats.org/officeDocument/2006/relationships/hyperlink" Target="http://www.tagxedo.com/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ideshare.net/JenniferW/wordle-ideas" TargetMode="External"/><Relationship Id="rId3" Type="http://schemas.openxmlformats.org/officeDocument/2006/relationships/hyperlink" Target="http://www.slideshare.net/JenniferW/wordle-ideas" TargetMode="External"/><Relationship Id="rId4" Type="http://schemas.openxmlformats.org/officeDocument/2006/relationships/hyperlink" Target="http://www.slideshare.net/JenniferW/wordle-ideas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Wordle It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(echnology) fo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er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8153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ed on C-SPAN minutes after President Obama completed his State of the Union address on January 27, 2009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672400" cy="5261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458200" cy="539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62485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ident’s address to students                September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3808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ords of the Inaugural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2120" y="2133720"/>
            <a:ext cx="7772400" cy="4232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43 Interesting Ways to Use Wordle in the Classroom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20" y="2971800"/>
            <a:ext cx="89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docs.google.com/present/view?id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=dhn2vcv5_157dpbsg9c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ow To Create A Word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95480" y="1523880"/>
          <a:ext cx="3419640" cy="442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1523880"/>
                    <a:ext cx="341964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ordle It! Resour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ordl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 It! Wi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ordleit.wikispac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 can view the wiki, but only wiki members can add to or edi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ore Online Tools for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reating Word Clou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ord Mosaic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imagechef.com/ic/word_mosaic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ord It Out_x000b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orditout.com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Tagul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tagul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ordsif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ordsif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1828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1828800"/>
            <a:ext cx="38124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828800"/>
            <a:ext cx="38124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1828800"/>
            <a:ext cx="38124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50292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971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2971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2971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114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41148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 Favorite Tool for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eating Word Clou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br>
              <a:rPr sz="3200"/>
            </a:b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agxedo</a:t>
            </a:r>
            <a:r>
              <a:rPr b="1" lang="en-US" sz="3200" spc="-1" strike="noStrike">
                <a:solidFill>
                  <a:srgbClr val="ffd320"/>
                </a:solidFill>
                <a:latin typeface="Arial"/>
              </a:rPr>
              <a:t>   </a:t>
            </a:r>
            <a:br>
              <a:rPr sz="3200"/>
            </a:b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tagxedo.com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gxedo has some amazing fea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oad an image file and use it for the shape of your word clou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your word cloud as an image or an embeddable file.  </a:t>
            </a:r>
            <a:r>
              <a:rPr b="1" lang="en-US" sz="3200" spc="-1" strike="noStrike">
                <a:solidFill>
                  <a:srgbClr val="ffd32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22860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22860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2860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2860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286000"/>
            <a:ext cx="380880" cy="22860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31273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cloud of Hamlet's soliloqu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76760" y="1676160"/>
            <a:ext cx="4167360" cy="4422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179880" y="731880"/>
            <a:ext cx="5735520" cy="5897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800600" cy="6172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76760" y="1676520"/>
            <a:ext cx="4167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gxedo for student's historical ballad 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A word cloud is a stylized way of visually representing occurrences of words in a piece of text. The most frequently used words are normally highlighted in a larger, bolder fo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Modified from Webopedia Computer Dictionary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webopedia.com/TERM/t/tag_cloud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838836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, how will you word clouds in your classroom this y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6800"/>
            <a:ext cx="8510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, what’s Word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99036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raphic representation of most frequently used wo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speech in a poem, in a book, in your head, in scripture, in a historical document, on a blog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wiki, on a chart in your classroom, on Twitter/Plurk, at a presentation or staff meeting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piece of writing, and mo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it is NOT limited to only frequently used words.  You can create a wordle to be what you wish the wordle to b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: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en Wagner’s Ways to Use Wordle in Your Classro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slideshare.net/JenniferW/wordle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-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Handful of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ample Word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531720"/>
            <a:ext cx="8305920" cy="5846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593640"/>
            <a:ext cx="868680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49240"/>
            <a:ext cx="7848720" cy="5210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858960"/>
            <a:ext cx="8458200" cy="509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sidential Word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6:01:39Z</dcterms:created>
  <dc:creator>Richland School District Two</dc:creator>
  <dc:description/>
  <dc:language>en-US</dc:language>
  <cp:lastModifiedBy>Richland School District Two</cp:lastModifiedBy>
  <dcterms:modified xsi:type="dcterms:W3CDTF">2010-02-18T20:03:18Z</dcterms:modified>
  <cp:revision>4</cp:revision>
  <dc:subject/>
  <dc:title>Slide 1</dc:title>
</cp:coreProperties>
</file>